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media/image24.gif" ContentType="image/gif"/>
  <Override PartName="/ppt/media/image7.wmf" ContentType="image/x-wmf"/>
  <Override PartName="/ppt/media/image6.wmf" ContentType="image/x-wmf"/>
  <Override PartName="/ppt/media/image5.gif" ContentType="image/gif"/>
  <Override PartName="/ppt/media/image14.jpeg" ContentType="image/jpeg"/>
  <Override PartName="/ppt/media/image16.wmf" ContentType="image/x-wmf"/>
  <Override PartName="/ppt/media/image23.gif" ContentType="image/gif"/>
  <Override PartName="/ppt/media/image22.wmf" ContentType="image/x-wmf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E9DD-BB03-4AAB-9ADB-E525EDE3E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292E-17F8-47C0-B1AB-AC1427F81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010A-8384-4D64-AF9F-EC32D2DEB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B7EF-6610-4AE4-8AFC-22E51CA5EB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3592-1F8A-41AB-9E71-115798927D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84AC-9D70-469A-B1FA-4BFF70DE3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9DFA-18A9-4CBF-B155-7BDD23F70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B84D-2A70-4BD5-94DA-773AB8F6E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F51E-20DC-483F-B4AF-B463B9647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B39F-16F5-4059-A853-50AA90E0F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0FA5-18E2-485D-B1C1-845F61290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19AF-9CFD-46CD-B489-368012A9E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D183-EAAF-4F67-A527-3E6182931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62120" y="6172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762120" y="63244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3"/>
          <p:cNvSpPr txBox="1"/>
          <p:nvPr/>
        </p:nvSpPr>
        <p:spPr>
          <a:xfrm>
            <a:off x="1676520" y="4191120"/>
            <a:ext cx="619128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"/>
              </a:rPr>
              <a:t>Animal Adaptations</a:t>
            </a:r>
            <a:endParaRPr b="0" lang="en-US" sz="6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"/>
              <a:ea typeface="Harlow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971800" y="525780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kon Font"/>
              </a:rPr>
              <a:t>SOL 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By Ms. Weinbe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304920"/>
            <a:ext cx="8305920" cy="6248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animal-camouflage-1"/>
          <p:cNvPicPr/>
          <p:nvPr/>
        </p:nvPicPr>
        <p:blipFill>
          <a:blip r:embed="rId1"/>
          <a:stretch/>
        </p:blipFill>
        <p:spPr>
          <a:xfrm>
            <a:off x="2743200" y="6858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8288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514600" y="18288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1295280" y="4038480"/>
            <a:ext cx="723924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434340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(like venom, ink, sp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1981080" y="1219320"/>
          <a:ext cx="2100240" cy="26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210024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6" descr="j0112196"/>
          <p:cNvPicPr/>
          <p:nvPr/>
        </p:nvPicPr>
        <p:blipFill>
          <a:blip r:embed="rId3"/>
          <a:stretch/>
        </p:blipFill>
        <p:spPr>
          <a:xfrm>
            <a:off x="4191120" y="2133720"/>
            <a:ext cx="4114800" cy="15174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838080" y="609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ody coverings &amp; parts (claws, beaks, feet, armor plates, skulls, tee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elephant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3539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33520" y="5486400"/>
            <a:ext cx="7772400" cy="1143000"/>
          </a:xfrm>
          <a:prstGeom prst="rect">
            <a:avLst/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elephant’s </a:t>
            </a:r>
            <a:r>
              <a:rPr b="0" lang="en-US" sz="2400" spc="-1" strike="noStrike">
                <a:solidFill>
                  <a:srgbClr val="993300"/>
                </a:solidFill>
                <a:latin typeface="Copperplate Gothic Light"/>
              </a:rPr>
              <a:t>trunk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s a physical adaptation that helps it to clean itself, eat, drink, and to pick things u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zoom dir="in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3880" y="533520"/>
            <a:ext cx="58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Now let’s lear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600200" y="487692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llow animals to respond to life nee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AN04487_"/>
          <p:cNvPicPr/>
          <p:nvPr/>
        </p:nvPicPr>
        <p:blipFill>
          <a:blip r:embed="rId1"/>
          <a:stretch/>
        </p:blipFill>
        <p:spPr>
          <a:xfrm>
            <a:off x="3124080" y="2209680"/>
            <a:ext cx="2590920" cy="2405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3880" y="4343400"/>
            <a:ext cx="586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Each organism has unique methods of adapting to its environment by means of different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676520" y="3049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re animals’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2514600"/>
            <a:ext cx="586764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Yukon Font"/>
              </a:rPr>
              <a:t>Remember that Physical Adaptations are body structures</a:t>
            </a: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crow"/>
          <p:cNvPicPr/>
          <p:nvPr/>
        </p:nvPicPr>
        <p:blipFill>
          <a:blip r:embed="rId1"/>
          <a:stretch/>
        </p:blipFill>
        <p:spPr>
          <a:xfrm>
            <a:off x="6477120" y="2209680"/>
            <a:ext cx="1600200" cy="1494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3049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We can divid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into two grou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95280" y="22860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181480" y="2362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95280" y="419112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happen naturally &amp; don’t have to be lea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181480" y="47242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must be tau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7003"/>
          <p:cNvPicPr/>
          <p:nvPr/>
        </p:nvPicPr>
        <p:blipFill>
          <a:blip r:embed="rId1"/>
          <a:stretch/>
        </p:blipFill>
        <p:spPr>
          <a:xfrm>
            <a:off x="5257800" y="3048120"/>
            <a:ext cx="2286000" cy="153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AN02614_"/>
          <p:cNvPicPr/>
          <p:nvPr/>
        </p:nvPicPr>
        <p:blipFill>
          <a:blip r:embed="rId2"/>
          <a:stretch/>
        </p:blipFill>
        <p:spPr>
          <a:xfrm>
            <a:off x="1752480" y="3200400"/>
            <a:ext cx="1836720" cy="771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500"/>
                            </p:stCondLst>
                            <p:childTnLst>
                              <p:par>
                                <p:cTn id="38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914400" y="1066680"/>
            <a:ext cx="28195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behavi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952880" y="1295280"/>
            <a:ext cx="3581640" cy="221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105520" y="16765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happen naturally &amp; don’t need to be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4479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Finding she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57200" y="42670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ethods of gathering &amp; storing fo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4495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Defending one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1911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Raising yo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943600" y="4419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Hibern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324480" y="5257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ig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6" descr="Dragnfly"/>
          <p:cNvPicPr/>
          <p:nvPr/>
        </p:nvPicPr>
        <p:blipFill>
          <a:blip r:embed="rId1"/>
          <a:stretch/>
        </p:blipFill>
        <p:spPr>
          <a:xfrm>
            <a:off x="3505320" y="3200400"/>
            <a:ext cx="877680" cy="960480"/>
          </a:xfrm>
          <a:prstGeom prst="rect">
            <a:avLst/>
          </a:prstGeom>
          <a:ln w="0">
            <a:noFill/>
          </a:ln>
        </p:spPr>
      </p:pic>
    </p:spTree>
  </p:cSld>
  <p:transition advTm="22000">
    <p:checker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800600" y="1219320"/>
            <a:ext cx="3962520" cy="3581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219320" y="1219320"/>
            <a:ext cx="22860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952880" y="1371600"/>
            <a:ext cx="381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Obtained by interacting with the environment and cannot be passed on to the next generation except by tea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j0134761"/>
          <p:cNvPicPr/>
          <p:nvPr/>
        </p:nvPicPr>
        <p:blipFill>
          <a:blip r:embed="rId1"/>
          <a:stretch/>
        </p:blipFill>
        <p:spPr>
          <a:xfrm>
            <a:off x="1066680" y="2895480"/>
            <a:ext cx="3175200" cy="3022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274400" y="304920"/>
            <a:ext cx="739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 this lesson, we have learned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Yukon Font"/>
              </a:rPr>
              <a:t>anim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1440" y="2133720"/>
            <a:ext cx="81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re are 2 ways to describe adap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980720" y="30481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97600" y="30481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590800" y="297180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AN00816_"/>
          <p:cNvPicPr/>
          <p:nvPr/>
        </p:nvPicPr>
        <p:blipFill>
          <a:blip r:embed="rId2"/>
          <a:stretch/>
        </p:blipFill>
        <p:spPr>
          <a:xfrm>
            <a:off x="1676520" y="396252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04487_"/>
          <p:cNvPicPr/>
          <p:nvPr/>
        </p:nvPicPr>
        <p:blipFill>
          <a:blip r:embed="rId3"/>
          <a:stretch/>
        </p:blipFill>
        <p:spPr>
          <a:xfrm>
            <a:off x="5715000" y="4108320"/>
            <a:ext cx="1752480" cy="16257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hecker dir="horz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95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25240" y="533520"/>
            <a:ext cx="80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 adaptations are body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63600" y="1447920"/>
            <a:ext cx="86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Some examples of physical adaptations 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02720" y="24382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amouf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921400" y="313992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387240" y="4648320"/>
            <a:ext cx="45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ody coverings &amp;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942640" y="3886200"/>
            <a:ext cx="37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9" descr="1abu201"/>
          <p:cNvPicPr/>
          <p:nvPr/>
        </p:nvPicPr>
        <p:blipFill>
          <a:blip r:embed="rId2"/>
          <a:stretch/>
        </p:blipFill>
        <p:spPr>
          <a:xfrm>
            <a:off x="213372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1abu201"/>
          <p:cNvPicPr/>
          <p:nvPr/>
        </p:nvPicPr>
        <p:blipFill>
          <a:blip r:embed="rId3"/>
          <a:stretch/>
        </p:blipFill>
        <p:spPr>
          <a:xfrm>
            <a:off x="259092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img95"/>
          <p:cNvPicPr/>
          <p:nvPr/>
        </p:nvPicPr>
        <p:blipFill>
          <a:blip r:embed="rId4"/>
          <a:stretch/>
        </p:blipFill>
        <p:spPr>
          <a:xfrm>
            <a:off x="2514600" y="3276720"/>
            <a:ext cx="974880" cy="86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img95"/>
          <p:cNvPicPr/>
          <p:nvPr/>
        </p:nvPicPr>
        <p:blipFill>
          <a:blip r:embed="rId5"/>
          <a:stretch/>
        </p:blipFill>
        <p:spPr>
          <a:xfrm>
            <a:off x="3048120" y="4724280"/>
            <a:ext cx="974520" cy="8622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checker dir="horz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9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73600" y="533520"/>
            <a:ext cx="86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are animals’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426320" y="1676520"/>
            <a:ext cx="59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or L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an01124_"/>
          <p:cNvPicPr/>
          <p:nvPr/>
        </p:nvPicPr>
        <p:blipFill>
          <a:blip r:embed="rId2"/>
          <a:stretch/>
        </p:blipFill>
        <p:spPr>
          <a:xfrm>
            <a:off x="3733920" y="3200400"/>
            <a:ext cx="1660320" cy="2021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hecker dir="horz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47920" y="53352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Have you ever wondered how animals are able to survive in the w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828800" y="5410080"/>
            <a:ext cx="53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imals have certain 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daptations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at help them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1328_"/>
          <p:cNvPicPr/>
          <p:nvPr/>
        </p:nvPicPr>
        <p:blipFill>
          <a:blip r:embed="rId1"/>
          <a:stretch/>
        </p:blipFill>
        <p:spPr>
          <a:xfrm>
            <a:off x="7162920" y="510552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 flipH="1">
            <a:off x="6400800" y="3809880"/>
            <a:ext cx="1295280" cy="17528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ZEBRAS"/>
          <p:cNvPicPr/>
          <p:nvPr/>
        </p:nvPicPr>
        <p:blipFill>
          <a:blip r:embed="rId2"/>
          <a:stretch/>
        </p:blipFill>
        <p:spPr>
          <a:xfrm>
            <a:off x="2133720" y="1600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971800" y="60948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 next time you read about an animal in the wild, or when you see one on television, think about its adaptation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3886200" y="5334120"/>
            <a:ext cx="12859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7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ink about the way you dress in the w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28195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You don’t wear your shorts and bathing suit when it’s snowing outs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09680" y="434340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wear warm clothes, and maybe even a hat and mittens to protect yourself  from the wea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j0318772"/>
          <p:cNvPicPr/>
          <p:nvPr/>
        </p:nvPicPr>
        <p:blipFill>
          <a:blip r:embed="rId1"/>
          <a:stretch/>
        </p:blipFill>
        <p:spPr>
          <a:xfrm>
            <a:off x="3809880" y="1143000"/>
            <a:ext cx="1524240" cy="1468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981080" y="4114800"/>
            <a:ext cx="5105520" cy="21337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j0323744"/>
          <p:cNvPicPr/>
          <p:nvPr/>
        </p:nvPicPr>
        <p:blipFill>
          <a:blip r:embed="rId2"/>
          <a:stretch/>
        </p:blipFill>
        <p:spPr>
          <a:xfrm>
            <a:off x="7238880" y="5257800"/>
            <a:ext cx="1668600" cy="12351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685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 what if you are having a snowball f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676520" y="3429000"/>
            <a:ext cx="533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probably run away from the person throwing at you, and maybe even try to sneak up on that person and throw some snowbal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4"/>
          <p:cNvSpPr/>
          <p:nvPr/>
        </p:nvSpPr>
        <p:spPr>
          <a:xfrm>
            <a:off x="1295280" y="2743200"/>
            <a:ext cx="6096240" cy="327672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j0136181"/>
          <p:cNvPicPr/>
          <p:nvPr/>
        </p:nvPicPr>
        <p:blipFill>
          <a:blip r:embed="rId1"/>
          <a:stretch/>
        </p:blipFill>
        <p:spPr>
          <a:xfrm>
            <a:off x="3429000" y="1219320"/>
            <a:ext cx="2309760" cy="24382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3808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e way you dress in the winter, as well as the way that you run and hide from someone throwing snow at you are kinds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28800" y="3962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828800" y="2666880"/>
            <a:ext cx="5181480" cy="3276720"/>
          </a:xfrm>
          <a:prstGeom prst="pie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143000" y="2209680"/>
            <a:ext cx="6553080" cy="4191120"/>
          </a:xfrm>
          <a:prstGeom prst="pi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990720" y="2057400"/>
            <a:ext cx="6553080" cy="4191120"/>
          </a:xfrm>
          <a:prstGeom prst="pi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9480" y="1676520"/>
            <a:ext cx="7315200" cy="472428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38080" y="533520"/>
            <a:ext cx="70866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We can separat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into two categori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410080" y="2286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114800" y="3429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486400" y="5029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>
            <a:off x="2438280" y="2362320"/>
            <a:ext cx="266724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 flipV="1">
            <a:off x="2286000" y="3657600"/>
            <a:ext cx="27432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057400" y="1523880"/>
            <a:ext cx="1219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facegrn"/>
          <p:cNvPicPr/>
          <p:nvPr/>
        </p:nvPicPr>
        <p:blipFill>
          <a:blip r:embed="rId1"/>
          <a:stretch/>
        </p:blipFill>
        <p:spPr>
          <a:xfrm>
            <a:off x="6269040" y="3048120"/>
            <a:ext cx="1576440" cy="1752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825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825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724280" y="304920"/>
            <a:ext cx="4038840" cy="38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re body structures that allow an animal to find and consume food, defend itself, and to reproduce its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181480" y="4419720"/>
            <a:ext cx="304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help an animal survive in its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animal-camouflage-6"/>
          <p:cNvPicPr/>
          <p:nvPr/>
        </p:nvPicPr>
        <p:blipFill>
          <a:blip r:embed="rId1"/>
          <a:stretch/>
        </p:blipFill>
        <p:spPr>
          <a:xfrm>
            <a:off x="304920" y="304920"/>
            <a:ext cx="2708280" cy="62863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 rot="10798200">
            <a:off x="2514600" y="2514600"/>
            <a:ext cx="1905120" cy="2743200"/>
          </a:xfrm>
          <a:prstGeom prst="wedgeRoundRectCallout">
            <a:avLst>
              <a:gd name="adj1" fmla="val 106875"/>
              <a:gd name="adj2" fmla="val 93037"/>
              <a:gd name="adj3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y!  I’m a walking stick.  I look just like a stick you’d find on the gr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80880" y="647712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1143000" y="1066680"/>
            <a:ext cx="6858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71600" y="114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Camouflage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use of color in a surrou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Dwarf Chameleon"/>
          <p:cNvPicPr/>
          <p:nvPr/>
        </p:nvPicPr>
        <p:blipFill>
          <a:blip r:embed="rId1"/>
          <a:stretch/>
        </p:blipFill>
        <p:spPr>
          <a:xfrm>
            <a:off x="2209680" y="2057400"/>
            <a:ext cx="4876920" cy="3008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chameleon can change its </a:t>
            </a:r>
            <a:r>
              <a:rPr b="0" lang="en-US" sz="2400" spc="-1" strike="noStrike">
                <a:solidFill>
                  <a:srgbClr val="cc0099"/>
                </a:solidFill>
                <a:latin typeface="Lucida Casual"/>
              </a:rPr>
              <a:t>c</a:t>
            </a:r>
            <a:r>
              <a:rPr b="0" lang="en-US" sz="2400" spc="-1" strike="noStrike">
                <a:solidFill>
                  <a:srgbClr val="ff9900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000099"/>
                </a:solidFill>
                <a:latin typeface="Lucida Casual"/>
              </a:rPr>
              <a:t>l</a:t>
            </a:r>
            <a:r>
              <a:rPr b="0" lang="en-US" sz="2400" spc="-1" strike="noStrike">
                <a:solidFill>
                  <a:srgbClr val="ff00ff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ff6600"/>
                </a:solidFill>
                <a:latin typeface="Lucida Casu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to match its surroundings.  Can </a:t>
            </a: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do t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strips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838080" y="7621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looking or sounding like another living organ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monarch butterfly on milkweed"/>
          <p:cNvPicPr/>
          <p:nvPr/>
        </p:nvPicPr>
        <p:blipFill>
          <a:blip r:embed="rId1"/>
          <a:stretch/>
        </p:blipFill>
        <p:spPr>
          <a:xfrm>
            <a:off x="380880" y="3352680"/>
            <a:ext cx="32767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vic01"/>
          <p:cNvPicPr/>
          <p:nvPr/>
        </p:nvPicPr>
        <p:blipFill>
          <a:blip r:embed="rId2"/>
          <a:stretch/>
        </p:blipFill>
        <p:spPr>
          <a:xfrm>
            <a:off x="5943600" y="4627440"/>
            <a:ext cx="2895480" cy="2230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Viceroy butterfly uses mimicry to look like the Monarch butterfly. Can you tell them a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523880" y="5562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477120" y="434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Not 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838080" y="5791320"/>
            <a:ext cx="2438640" cy="8254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’m the Monar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72200" y="3505320"/>
            <a:ext cx="2438280" cy="4597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’m the Vicero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6:50:29Z</dcterms:created>
  <dc:creator>Stanley Heath</dc:creator>
  <dc:description/>
  <dc:language>en-US</dc:language>
  <cp:lastModifiedBy>Bay City Public Schools</cp:lastModifiedBy>
  <dcterms:modified xsi:type="dcterms:W3CDTF">2010-02-14T18:48:48Z</dcterms:modified>
  <cp:revision>33</cp:revision>
  <dc:subject/>
  <dc:title>PowerPoint Presentation</dc:title>
</cp:coreProperties>
</file>