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wmf" ContentType="image/x-wmf"/>
  <Override PartName="/ppt/media/image9.jpeg" ContentType="image/jpeg"/>
  <Override PartName="/ppt/media/image11.jpeg" ContentType="image/jpeg"/>
  <Override PartName="/ppt/media/image12.wmf" ContentType="image/x-wmf"/>
  <Override PartName="/ppt/media/image24.gif" ContentType="image/gif"/>
  <Override PartName="/ppt/media/image7.wmf" ContentType="image/x-wmf"/>
  <Override PartName="/ppt/media/image6.wmf" ContentType="image/x-wmf"/>
  <Override PartName="/ppt/media/image5.gif" ContentType="image/gif"/>
  <Override PartName="/ppt/media/image14.jpeg" ContentType="image/jpeg"/>
  <Override PartName="/ppt/media/image16.wmf" ContentType="image/x-wmf"/>
  <Override PartName="/ppt/media/image23.gif" ContentType="image/gif"/>
  <Override PartName="/ppt/media/image22.wmf" ContentType="image/x-wmf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D1772-A16F-41F4-AD8A-0B8F0553B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927C-2263-421C-B3D1-0320A8384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30B45-9760-4475-89A6-429E97018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F6182-22C9-4C9D-B5AB-DEC18F3345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E8C8-7D26-4853-A6E6-930C754F2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1B208-5ABF-480F-B335-F4529F46A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716C-D6B3-4396-8D0E-6AAF8467F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D041-E916-4032-B3D4-DA32BE9A9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C9F6C-D575-4A07-94F5-50701F39D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264DE-7D5B-4326-848C-EDB2C95F0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458C3-03DD-4A45-B215-12152D905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95862-3448-4E43-B899-82679562D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6F5C-A7C2-41B4-9A7B-3318ABFCF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62120" y="61722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762120" y="63244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A. Weinbe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3"/>
          <p:cNvSpPr txBox="1"/>
          <p:nvPr/>
        </p:nvSpPr>
        <p:spPr>
          <a:xfrm>
            <a:off x="1676520" y="4191120"/>
            <a:ext cx="619128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"/>
              </a:rPr>
              <a:t>Animal Adaptations</a:t>
            </a:r>
            <a:endParaRPr b="0" lang="en-US" sz="60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"/>
              <a:ea typeface="Harlow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971800" y="525780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Yukon Font"/>
              </a:rPr>
              <a:t>SOL 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By Ms. Weinbe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304920"/>
            <a:ext cx="8305920" cy="6248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animal-camouflage-1"/>
          <p:cNvPicPr/>
          <p:nvPr/>
        </p:nvPicPr>
        <p:blipFill>
          <a:blip r:embed="rId1"/>
          <a:stretch/>
        </p:blipFill>
        <p:spPr>
          <a:xfrm>
            <a:off x="2743200" y="6858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18288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514600" y="18288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1295280" y="4038480"/>
            <a:ext cx="7239240" cy="129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434340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Yukon Font"/>
              </a:rPr>
              <a:t>Chemical defense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(like venom, ink, spr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1981080" y="1219320"/>
          <a:ext cx="2100240" cy="26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210024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6" descr="j0112196"/>
          <p:cNvPicPr/>
          <p:nvPr/>
        </p:nvPicPr>
        <p:blipFill>
          <a:blip r:embed="rId3"/>
          <a:stretch/>
        </p:blipFill>
        <p:spPr>
          <a:xfrm>
            <a:off x="4191120" y="2133720"/>
            <a:ext cx="4114800" cy="15174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838080" y="609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Body coverings &amp; parts (claws, beaks, feet, armor plates, skulls, tee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elephant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3539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533520" y="5486400"/>
            <a:ext cx="7772400" cy="1143000"/>
          </a:xfrm>
          <a:prstGeom prst="rect">
            <a:avLst/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elephant’s </a:t>
            </a:r>
            <a:r>
              <a:rPr b="0" lang="en-US" sz="2400" spc="-1" strike="noStrike">
                <a:solidFill>
                  <a:srgbClr val="993300"/>
                </a:solidFill>
                <a:latin typeface="Copperplate Gothic Light"/>
              </a:rPr>
              <a:t>trunk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s a physical adaptation that helps it to clean itself, eat, drink, and to pick things u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zoom dir="in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3880" y="533520"/>
            <a:ext cx="586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Now let’s lear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600200" y="487692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allow animals to respond to life nee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AN04487_"/>
          <p:cNvPicPr/>
          <p:nvPr/>
        </p:nvPicPr>
        <p:blipFill>
          <a:blip r:embed="rId1"/>
          <a:stretch/>
        </p:blipFill>
        <p:spPr>
          <a:xfrm>
            <a:off x="3124080" y="2209680"/>
            <a:ext cx="2590920" cy="24051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wipe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523880" y="4343400"/>
            <a:ext cx="586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Each organism has unique methods of adapting to its environment by means of different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676520" y="30492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are animals’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2514600"/>
            <a:ext cx="586764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Yukon Font"/>
              </a:rPr>
              <a:t>Remember that Physical Adaptations are body structures</a:t>
            </a: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crow"/>
          <p:cNvPicPr/>
          <p:nvPr/>
        </p:nvPicPr>
        <p:blipFill>
          <a:blip r:embed="rId1"/>
          <a:stretch/>
        </p:blipFill>
        <p:spPr>
          <a:xfrm>
            <a:off x="6477120" y="2209680"/>
            <a:ext cx="1600200" cy="1494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09480" y="3049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We can divide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into two grou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95280" y="22860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181480" y="2362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Learn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95280" y="419112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behaviors happen naturally &amp; don’t have to be lear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181480" y="47242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behaviors must be tau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8" descr="7003"/>
          <p:cNvPicPr/>
          <p:nvPr/>
        </p:nvPicPr>
        <p:blipFill>
          <a:blip r:embed="rId1"/>
          <a:stretch/>
        </p:blipFill>
        <p:spPr>
          <a:xfrm>
            <a:off x="5257800" y="3048120"/>
            <a:ext cx="2286000" cy="1531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AN02614_"/>
          <p:cNvPicPr/>
          <p:nvPr/>
        </p:nvPicPr>
        <p:blipFill>
          <a:blip r:embed="rId2"/>
          <a:stretch/>
        </p:blipFill>
        <p:spPr>
          <a:xfrm>
            <a:off x="1752480" y="3200400"/>
            <a:ext cx="1836720" cy="771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hecker dir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500"/>
                            </p:stCondLst>
                            <p:childTnLst>
                              <p:par>
                                <p:cTn id="38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914400" y="1066680"/>
            <a:ext cx="28195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129528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behavi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952880" y="1295280"/>
            <a:ext cx="3581640" cy="2210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105520" y="167652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happen naturally &amp; don’t need to be l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88620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ukon Font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447920" y="5257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Finding she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457200" y="42670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Methods of gathering &amp; storing fo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76720" y="44956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Defending one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191120" y="5257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Raising yo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943600" y="44197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Hiberna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324480" y="52578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Mig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6" descr="Dragnfly"/>
          <p:cNvPicPr/>
          <p:nvPr/>
        </p:nvPicPr>
        <p:blipFill>
          <a:blip r:embed="rId1"/>
          <a:stretch/>
        </p:blipFill>
        <p:spPr>
          <a:xfrm>
            <a:off x="3505320" y="3200400"/>
            <a:ext cx="877680" cy="960480"/>
          </a:xfrm>
          <a:prstGeom prst="rect">
            <a:avLst/>
          </a:prstGeom>
          <a:ln w="0">
            <a:noFill/>
          </a:ln>
        </p:spPr>
      </p:pic>
    </p:spTree>
  </p:cSld>
  <p:transition advTm="22000">
    <p:checker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800600" y="1219320"/>
            <a:ext cx="3962520" cy="3581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219320" y="1219320"/>
            <a:ext cx="22860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129528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Learned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952880" y="1371600"/>
            <a:ext cx="3810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Obtained by interacting with the environment and cannot be passed on to the next generation except by teac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88620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ukon Font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8" descr="j0134761"/>
          <p:cNvPicPr/>
          <p:nvPr/>
        </p:nvPicPr>
        <p:blipFill>
          <a:blip r:embed="rId1"/>
          <a:stretch/>
        </p:blipFill>
        <p:spPr>
          <a:xfrm>
            <a:off x="1066680" y="2895480"/>
            <a:ext cx="3175200" cy="3022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zoom dir="ou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274400" y="304920"/>
            <a:ext cx="739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 this lesson, we have learned ab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Yukon Font"/>
              </a:rPr>
              <a:t>anim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51440" y="2133720"/>
            <a:ext cx="81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There are 2 ways to describe adapt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980720" y="304812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97600" y="30481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590800" y="2971800"/>
            <a:ext cx="22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AN00816_"/>
          <p:cNvPicPr/>
          <p:nvPr/>
        </p:nvPicPr>
        <p:blipFill>
          <a:blip r:embed="rId2"/>
          <a:stretch/>
        </p:blipFill>
        <p:spPr>
          <a:xfrm>
            <a:off x="1676520" y="3962520"/>
            <a:ext cx="2057400" cy="1887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AN04487_"/>
          <p:cNvPicPr/>
          <p:nvPr/>
        </p:nvPicPr>
        <p:blipFill>
          <a:blip r:embed="rId3"/>
          <a:stretch/>
        </p:blipFill>
        <p:spPr>
          <a:xfrm>
            <a:off x="5715000" y="4108320"/>
            <a:ext cx="1752480" cy="16257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hecker dir="horz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8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95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25240" y="533520"/>
            <a:ext cx="80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Physical adaptations are body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63600" y="1447920"/>
            <a:ext cx="86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Some examples of physical adaptations a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502720" y="243828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Camouf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921400" y="313992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Mimic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387240" y="4648320"/>
            <a:ext cx="45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ody coverings &amp;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942640" y="3886200"/>
            <a:ext cx="37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Chemical def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9" descr="1abu201"/>
          <p:cNvPicPr/>
          <p:nvPr/>
        </p:nvPicPr>
        <p:blipFill>
          <a:blip r:embed="rId2"/>
          <a:stretch/>
        </p:blipFill>
        <p:spPr>
          <a:xfrm>
            <a:off x="2133720" y="2514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1abu201"/>
          <p:cNvPicPr/>
          <p:nvPr/>
        </p:nvPicPr>
        <p:blipFill>
          <a:blip r:embed="rId3"/>
          <a:stretch/>
        </p:blipFill>
        <p:spPr>
          <a:xfrm>
            <a:off x="259092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img95"/>
          <p:cNvPicPr/>
          <p:nvPr/>
        </p:nvPicPr>
        <p:blipFill>
          <a:blip r:embed="rId4"/>
          <a:stretch/>
        </p:blipFill>
        <p:spPr>
          <a:xfrm>
            <a:off x="2514600" y="3276720"/>
            <a:ext cx="974880" cy="861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img95"/>
          <p:cNvPicPr/>
          <p:nvPr/>
        </p:nvPicPr>
        <p:blipFill>
          <a:blip r:embed="rId5"/>
          <a:stretch/>
        </p:blipFill>
        <p:spPr>
          <a:xfrm>
            <a:off x="3048120" y="4724280"/>
            <a:ext cx="974520" cy="86220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checker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500"/>
                            </p:stCondLst>
                            <p:childTnLst>
                              <p:par>
                                <p:cTn id="4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0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9500"/>
                            </p:stCondLst>
                            <p:childTnLst>
                              <p:par>
                                <p:cTn id="5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73600" y="533520"/>
            <a:ext cx="86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 Adaptations are animals’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426320" y="1676520"/>
            <a:ext cx="59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 Adaptations can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or L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an01124_"/>
          <p:cNvPicPr/>
          <p:nvPr/>
        </p:nvPicPr>
        <p:blipFill>
          <a:blip r:embed="rId2"/>
          <a:stretch/>
        </p:blipFill>
        <p:spPr>
          <a:xfrm>
            <a:off x="3733920" y="3200400"/>
            <a:ext cx="1660320" cy="20210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checker dir="horz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47920" y="533520"/>
            <a:ext cx="624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Have you ever wondered how animals are able to survive in the wi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828800" y="5410080"/>
            <a:ext cx="533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imals have certain 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adaptations 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at help them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1328_"/>
          <p:cNvPicPr/>
          <p:nvPr/>
        </p:nvPicPr>
        <p:blipFill>
          <a:blip r:embed="rId1"/>
          <a:stretch/>
        </p:blipFill>
        <p:spPr>
          <a:xfrm>
            <a:off x="7162920" y="5105520"/>
            <a:ext cx="1371600" cy="1109520"/>
          </a:xfrm>
          <a:prstGeom prst="rect">
            <a:avLst/>
          </a:prstGeom>
          <a:ln w="0">
            <a:noFill/>
          </a:ln>
        </p:spPr>
      </p:pic>
      <p:sp>
        <p:nvSpPr>
          <p:cNvPr id="51" name="Line 6"/>
          <p:cNvSpPr/>
          <p:nvPr/>
        </p:nvSpPr>
        <p:spPr>
          <a:xfrm flipH="1">
            <a:off x="6400800" y="3809880"/>
            <a:ext cx="1295280" cy="17528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ZEBRAS"/>
          <p:cNvPicPr/>
          <p:nvPr/>
        </p:nvPicPr>
        <p:blipFill>
          <a:blip r:embed="rId2"/>
          <a:stretch/>
        </p:blipFill>
        <p:spPr>
          <a:xfrm>
            <a:off x="2133720" y="16002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971800" y="609480"/>
            <a:ext cx="3200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The next time you read about an animal in the wild, or when you see one on television, think about its adaptations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WordArt 3"/>
          <p:cNvSpPr txBox="1"/>
          <p:nvPr/>
        </p:nvSpPr>
        <p:spPr>
          <a:xfrm>
            <a:off x="3886200" y="5334120"/>
            <a:ext cx="12859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17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ink about the way you dress in the w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57200" y="28195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You don’t wear your shorts and bathing suit when it’s snowing outsi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09680" y="4343400"/>
            <a:ext cx="487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You wear warm clothes, and maybe even a hat and mittens to protect yourself  from the wea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j0318772"/>
          <p:cNvPicPr/>
          <p:nvPr/>
        </p:nvPicPr>
        <p:blipFill>
          <a:blip r:embed="rId1"/>
          <a:stretch/>
        </p:blipFill>
        <p:spPr>
          <a:xfrm>
            <a:off x="3809880" y="1143000"/>
            <a:ext cx="1524240" cy="1468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1981080" y="4114800"/>
            <a:ext cx="5105520" cy="213372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j0323744"/>
          <p:cNvPicPr/>
          <p:nvPr/>
        </p:nvPicPr>
        <p:blipFill>
          <a:blip r:embed="rId2"/>
          <a:stretch/>
        </p:blipFill>
        <p:spPr>
          <a:xfrm>
            <a:off x="7238880" y="5257800"/>
            <a:ext cx="1668600" cy="12351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5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62120" y="685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d what if you are having a snowball f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676520" y="3429000"/>
            <a:ext cx="533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You probably run away from the person throwing at you, and maybe even try to sneak up on that person and throw some snowball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4"/>
          <p:cNvSpPr/>
          <p:nvPr/>
        </p:nvSpPr>
        <p:spPr>
          <a:xfrm>
            <a:off x="1295280" y="2743200"/>
            <a:ext cx="6096240" cy="3276720"/>
          </a:xfrm>
          <a:prstGeom prst="ellipse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j0136181"/>
          <p:cNvPicPr/>
          <p:nvPr/>
        </p:nvPicPr>
        <p:blipFill>
          <a:blip r:embed="rId1"/>
          <a:stretch/>
        </p:blipFill>
        <p:spPr>
          <a:xfrm>
            <a:off x="3429000" y="1219320"/>
            <a:ext cx="2309760" cy="24382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5800" y="38088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e way you dress in the winter, as well as the way that you run and hide from someone throwing snow at you are kinds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828800" y="39625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Adap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1828800" y="2666880"/>
            <a:ext cx="5181480" cy="3276720"/>
          </a:xfrm>
          <a:prstGeom prst="pie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143000" y="2209680"/>
            <a:ext cx="6553080" cy="4191120"/>
          </a:xfrm>
          <a:prstGeom prst="pi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990720" y="2057400"/>
            <a:ext cx="6553080" cy="4191120"/>
          </a:xfrm>
          <a:prstGeom prst="pi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9480" y="1676520"/>
            <a:ext cx="7315200" cy="4724280"/>
          </a:xfrm>
          <a:prstGeom prst="pi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over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838080" y="533520"/>
            <a:ext cx="70866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We can separate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adaptation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into two categori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410080" y="2286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114800" y="3429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486400" y="5029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Behavi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"/>
          <p:cNvSpPr/>
          <p:nvPr/>
        </p:nvSpPr>
        <p:spPr>
          <a:xfrm>
            <a:off x="2438280" y="2362320"/>
            <a:ext cx="266724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 flipV="1">
            <a:off x="2286000" y="3657600"/>
            <a:ext cx="27432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057400" y="1523880"/>
            <a:ext cx="12193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3" descr="facegrn"/>
          <p:cNvPicPr/>
          <p:nvPr/>
        </p:nvPicPr>
        <p:blipFill>
          <a:blip r:embed="rId1"/>
          <a:stretch/>
        </p:blipFill>
        <p:spPr>
          <a:xfrm>
            <a:off x="6269040" y="3048120"/>
            <a:ext cx="1576440" cy="1752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825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825"/>
                            </p:stCondLst>
                            <p:childTnLst>
                              <p:par>
                                <p:cTn id="19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724280" y="304920"/>
            <a:ext cx="4038840" cy="38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Physical 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re body structures that allow an animal to find and consume food, defend itself, and to reproduce its spe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181480" y="4419720"/>
            <a:ext cx="304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Physical adaptation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help an animal survive in its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animal-camouflage-6"/>
          <p:cNvPicPr/>
          <p:nvPr/>
        </p:nvPicPr>
        <p:blipFill>
          <a:blip r:embed="rId1"/>
          <a:stretch/>
        </p:blipFill>
        <p:spPr>
          <a:xfrm>
            <a:off x="304920" y="304920"/>
            <a:ext cx="2708280" cy="62863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 rot="10798200">
            <a:off x="2514600" y="2514600"/>
            <a:ext cx="1905120" cy="2743200"/>
          </a:xfrm>
          <a:prstGeom prst="wedgeRoundRectCallout">
            <a:avLst>
              <a:gd name="adj1" fmla="val 106875"/>
              <a:gd name="adj2" fmla="val 93037"/>
              <a:gd name="adj3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y!  I’m a walking stick.  I look just like a stick you’d find on the grou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80880" y="647712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A. Weinbe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hecke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1143000" y="1066680"/>
            <a:ext cx="6858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371600" y="114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Yukon Font"/>
              </a:rPr>
              <a:t>Camouflage </a:t>
            </a: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(use of color in a surrou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Dwarf Chameleon"/>
          <p:cNvPicPr/>
          <p:nvPr/>
        </p:nvPicPr>
        <p:blipFill>
          <a:blip r:embed="rId1"/>
          <a:stretch/>
        </p:blipFill>
        <p:spPr>
          <a:xfrm>
            <a:off x="2209680" y="2057400"/>
            <a:ext cx="4876920" cy="3008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chameleon can change its </a:t>
            </a:r>
            <a:r>
              <a:rPr b="0" lang="en-US" sz="2400" spc="-1" strike="noStrike">
                <a:solidFill>
                  <a:srgbClr val="cc0099"/>
                </a:solidFill>
                <a:latin typeface="Lucida Casual"/>
              </a:rPr>
              <a:t>c</a:t>
            </a:r>
            <a:r>
              <a:rPr b="0" lang="en-US" sz="2400" spc="-1" strike="noStrike">
                <a:solidFill>
                  <a:srgbClr val="ff9900"/>
                </a:solidFill>
                <a:latin typeface="Lucida Casual"/>
              </a:rPr>
              <a:t>o</a:t>
            </a:r>
            <a:r>
              <a:rPr b="0" lang="en-US" sz="2400" spc="-1" strike="noStrike">
                <a:solidFill>
                  <a:srgbClr val="000099"/>
                </a:solidFill>
                <a:latin typeface="Lucida Casual"/>
              </a:rPr>
              <a:t>l</a:t>
            </a:r>
            <a:r>
              <a:rPr b="0" lang="en-US" sz="2400" spc="-1" strike="noStrike">
                <a:solidFill>
                  <a:srgbClr val="ff00ff"/>
                </a:solidFill>
                <a:latin typeface="Lucida Casual"/>
              </a:rPr>
              <a:t>o</a:t>
            </a:r>
            <a:r>
              <a:rPr b="0" lang="en-US" sz="2400" spc="-1" strike="noStrike">
                <a:solidFill>
                  <a:srgbClr val="ff6600"/>
                </a:solidFill>
                <a:latin typeface="Lucida Casu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 to match its surroundings.  Can </a:t>
            </a: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 do t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strips dir="r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50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838080" y="7621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Yukon Font"/>
              </a:rPr>
              <a:t>Mimic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(looking or sounding like another living organi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monarch butterfly on milkweed"/>
          <p:cNvPicPr/>
          <p:nvPr/>
        </p:nvPicPr>
        <p:blipFill>
          <a:blip r:embed="rId1"/>
          <a:stretch/>
        </p:blipFill>
        <p:spPr>
          <a:xfrm>
            <a:off x="380880" y="3352680"/>
            <a:ext cx="32767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vic01"/>
          <p:cNvPicPr/>
          <p:nvPr/>
        </p:nvPicPr>
        <p:blipFill>
          <a:blip r:embed="rId2"/>
          <a:stretch/>
        </p:blipFill>
        <p:spPr>
          <a:xfrm>
            <a:off x="5943600" y="4627440"/>
            <a:ext cx="2895480" cy="2230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85800" y="1981080"/>
            <a:ext cx="7772400" cy="11430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Viceroy butterfly uses mimicry to look like the Monarch butterfly. Can you tell them ap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523880" y="5562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Pois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477120" y="4343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Not pois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838080" y="5791320"/>
            <a:ext cx="2438640" cy="82548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’m the Monar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72200" y="3505320"/>
            <a:ext cx="2438280" cy="4597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’m the Vicero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hecker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16:50:29Z</dcterms:created>
  <dc:creator>Stanley Heath</dc:creator>
  <dc:description/>
  <dc:language>en-US</dc:language>
  <cp:lastModifiedBy>Bay City Public Schools</cp:lastModifiedBy>
  <dcterms:modified xsi:type="dcterms:W3CDTF">2010-02-14T18:48:48Z</dcterms:modified>
  <cp:revision>33</cp:revision>
  <dc:subject/>
  <dc:title>PowerPoint Presentation</dc:title>
</cp:coreProperties>
</file>